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BC489-BE80-4079-8FBA-0D3A5B4E7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3428640" y="208584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3428640" y="262836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D8F4C-6C84-4C96-BDA2-A7FE65E37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342864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631800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232B0-D466-4443-9B2F-0BEFF44C9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342864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33520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724176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342864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533520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724176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74CD0-E0D0-4C9C-A950-D5CCEAF3A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1247C-AADD-4A54-B64F-DE41DE241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3428640" y="208584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BE5D6-D661-49AB-8484-DCA9AD520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3428640" y="2085840"/>
            <a:ext cx="56386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1640D-D4B2-4CAD-B73E-048590BC4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342864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631800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DD163-3B94-410C-85D9-204D66A60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B0E93-79E1-459B-953A-7BACE46B9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t">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F9D4F-7871-45ED-8469-0BDAF5472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631800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342864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A1B44-50AF-41BC-8EFA-AF587A84A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3428640" y="208584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B1B7E-44E6-4A0A-BAA9-BB38BEF71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342864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31800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9FAB4-3386-4660-A8B7-CA2400B25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3428640" y="262836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25DF1-E633-42C6-8A1B-29E3BCCE3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3428640" y="208584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428640" y="262836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516F1-E081-4BBD-82AE-9546FE999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342864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631800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A23B1-2EFE-4366-BA0C-1036E4A39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342864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533520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724176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342864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533520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724176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57A26-779C-4995-8AEA-046FBF85E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3428640" y="2085840"/>
            <a:ext cx="56386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1A1FE-25AD-47F9-B170-D6A53B8BB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342864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631800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C67EA-A5F4-459C-BC19-881C055B3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746A1-2EA4-4B97-A7FD-28A1367D8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t">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C47E0-1CA0-4E5A-80BF-31C2BA687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631800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342864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71EE5-1950-4E4F-A65C-0079665E4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342864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31800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9401A-1F9E-4FE9-98A5-85A11DA2C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3428640" y="262836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9D72-A02D-4B9B-AE4C-DC754E806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9217-27CA-4E50-95CD-D7F1657070DC}" type="slidenum">
              <a:rPr b="0" lang="es-MX"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1E2C-50A1-4A31-BD6F-391FBA729EAB}" type="slidenum">
              <a:rPr b="0" lang="es-MX"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cc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es.wikipedia.org/wiki/Microsoft" TargetMode="External"/><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404640"/>
            <a:ext cx="7016760" cy="1470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Colegio Bilingüe de Palmares</a:t>
            </a:r>
            <a:br>
              <a:rPr sz="3600"/>
            </a:br>
            <a:r>
              <a:rPr b="0" lang="es-ES_tradnl" sz="3600" spc="-1" strike="noStrike">
                <a:solidFill>
                  <a:srgbClr val="ffcc66"/>
                </a:solidFill>
                <a:latin typeface="Arial"/>
              </a:rPr>
              <a:t>TISG</a:t>
            </a:r>
            <a:endParaRPr b="0" lang="en-US" sz="3600" spc="-1" strike="noStrike">
              <a:solidFill>
                <a:srgbClr val="ffcc66"/>
              </a:solidFill>
              <a:latin typeface="Arial"/>
            </a:endParaRPr>
          </a:p>
        </p:txBody>
      </p:sp>
      <p:sp>
        <p:nvSpPr>
          <p:cNvPr id="89" name="PlaceHolder 2"/>
          <p:cNvSpPr>
            <a:spLocks noGrp="1"/>
          </p:cNvSpPr>
          <p:nvPr>
            <p:ph type="subTitle"/>
          </p:nvPr>
        </p:nvSpPr>
        <p:spPr>
          <a:xfrm>
            <a:off x="1476360" y="3789360"/>
            <a:ext cx="6840720" cy="19447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66"/>
                </a:solidFill>
                <a:latin typeface="Times New Roman"/>
              </a:rPr>
              <a:t>Cuestiones sociales y éticas</a:t>
            </a: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66"/>
                </a:solidFill>
                <a:latin typeface="Times New Roman"/>
              </a:rPr>
              <a:t>Medioambientales relativas a la fabricación y eliminación del Hardware</a:t>
            </a:r>
            <a:endParaRPr b="0" lang="en-US" sz="3200" spc="-1" strike="noStrike">
              <a:solidFill>
                <a:srgbClr val="ffffff"/>
              </a:solidFill>
              <a:latin typeface="Times New Roman"/>
            </a:endParaRPr>
          </a:p>
        </p:txBody>
      </p:sp>
      <p:pic>
        <p:nvPicPr>
          <p:cNvPr id="90" name="" descr=""/>
          <p:cNvPicPr/>
          <p:nvPr/>
        </p:nvPicPr>
        <p:blipFill>
          <a:blip r:embed="rId1"/>
          <a:stretch/>
        </p:blipFill>
        <p:spPr>
          <a:xfrm>
            <a:off x="6588000" y="189000"/>
            <a:ext cx="2292480" cy="877680"/>
          </a:xfrm>
          <a:prstGeom prst="rect">
            <a:avLst/>
          </a:prstGeom>
          <a:ln w="0">
            <a:noFill/>
          </a:ln>
        </p:spPr>
      </p:pic>
      <p:sp>
        <p:nvSpPr>
          <p:cNvPr id="4" name="PlaceHolder 3"/>
          <p:cNvSpPr>
            <a:spLocks noGrp="1"/>
          </p:cNvSpPr>
          <p:nvPr>
            <p:ph type="sldNum" idx="6"/>
          </p:nvPr>
        </p:nvSpPr>
        <p:spPr/>
        <p:txBody>
          <a:bodyPr/>
          <a:p>
            <a:fld id="{9F568926-05D2-443A-B8D5-5A4256FB1FCD}" type="slidenum">
              <a:t>1</a:t>
            </a:fld>
          </a:p>
        </p:txBody>
      </p:sp>
      <p:sp>
        <p:nvSpPr>
          <p:cNvPr id="5" name="PlaceHolder 4"/>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395280" y="83664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0033"/>
                </a:solidFill>
                <a:uFillTx/>
                <a:latin typeface="Times New Roman"/>
                <a:hlinkClick r:id="rId1" action="ppaction://hlinksldjump"/>
              </a:rPr>
              <a:t>PBD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on los </a:t>
            </a:r>
            <a:r>
              <a:rPr b="1" lang="es-ES" sz="1800" spc="-1" strike="noStrike">
                <a:solidFill>
                  <a:srgbClr val="ffffff"/>
                </a:solidFill>
                <a:latin typeface="Times New Roman"/>
              </a:rPr>
              <a:t>polibromodifenil éteres</a:t>
            </a:r>
            <a:r>
              <a:rPr b="0" lang="es-E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PBDE</a:t>
            </a:r>
            <a:r>
              <a:rPr b="0" lang="es-ES" sz="1800" spc="-1" strike="noStrike">
                <a:solidFill>
                  <a:srgbClr val="ffffff"/>
                </a:solidFill>
                <a:latin typeface="Times New Roman"/>
              </a:rPr>
              <a:t>s, C12H10−xBrxO (x = 1–10 = m + n) son una clase de compuestos bromados de extenso uso como retardantes de llama en plásticos y espumas, incluidas las carcasas de plástico de equipos electrónico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os PBDEs son sustancias químicas medioambientalmente persistentes. Algunas de ellas, especialmente los congéneres menos bromados, altamente bioacumulativo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EEC91B1D-E17F-4219-A524-18745C1AC044}" type="slidenum">
              <a:t>10</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
          <p:cNvSpPr/>
          <p:nvPr/>
        </p:nvSpPr>
        <p:spPr>
          <a:xfrm>
            <a:off x="395280" y="836640"/>
            <a:ext cx="7848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0033"/>
                </a:solidFill>
                <a:uFillTx/>
                <a:latin typeface="Times New Roman"/>
                <a:hlinkClick r:id="rId1" action="ppaction://hlinksldjump"/>
              </a:rPr>
              <a:t>El PVC </a:t>
            </a:r>
            <a:r>
              <a:rPr b="0" lang="es-MX" sz="1800" spc="-1" strike="noStrike">
                <a:solidFill>
                  <a:srgbClr val="ffffff"/>
                </a:solidFill>
                <a:latin typeface="Times New Roman"/>
              </a:rPr>
              <a:t>es U</a:t>
            </a:r>
            <a:r>
              <a:rPr b="1" lang="es-MX" sz="1800" spc="-1" strike="noStrike">
                <a:solidFill>
                  <a:srgbClr val="ffffff"/>
                </a:solidFill>
                <a:latin typeface="Times New Roman"/>
              </a:rPr>
              <a:t>N VENENO MEDIOAMBIENTAL</a:t>
            </a:r>
            <a:r>
              <a:rPr b="0" lang="es-MX" sz="1800" spc="-1" strike="noStrike">
                <a:solidFill>
                  <a:srgbClr val="ffffff"/>
                </a:solidFill>
                <a:latin typeface="Times New Roman"/>
              </a:rPr>
              <a:t> </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Al ser un plástico que lleva cloro en su composición (el 57% del plástico virgen es cloro). </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u fabricación, al igual que otros procesos industriales que utilizan cloro, implica la formación y emisión al medio ambiente de sustancias organocloradas tóxicas, persistentes y bioacumulativas. </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Los gases, aguas residuales y residuos emitidos y vertidos por las fábricas de este plástico contienen cloruro de vinilo, hexaclorobenceno, PCBs, dioxinas y otras muchas sustancias organocloradas extremadamente tóxic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Por tanto,  ocasiona graves riesgos al medio ambiente y a la salud pública, durante todo su ciclo de vi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entencia dictada por el Tribunal Superior de Viena, Austria el 31 de Marzo del 94) </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B5A13079-DB5D-4BD4-BF0D-2FBEA968785A}" type="slidenum">
              <a:t>11</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95280" y="1557360"/>
            <a:ext cx="7848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uando estos materiales son dejados en los basureros contaminan el medio ambiente así el plomo, afecta al sistema nervioso y es nocivo para el cerebro de los niños; las baterías y los interruptores contienen mercurio, que afecta órganos y fetos y los tableros contienen berilio, cuya inhalación puede provocar cánc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La principal solución sería reutilizar y reciclar este hardware porque de lo contrario esto seguirá causando más problemas que cada vez será más difícil de solucionar. Esta sería una excelente manera de detener los problemas que este fenómeno trae aparejados y así poder ayudar a la mejor conservación del medioambiente y de la vida humana.</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2050920" y="620640"/>
            <a:ext cx="295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66"/>
                </a:solidFill>
                <a:latin typeface="Times New Roman"/>
              </a:rPr>
              <a:t>La obsolescencia del Hardwar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57573A86-1221-4EF7-ACD5-27F4B85300B0}" type="slidenum">
              <a:t>12</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684360" y="1916280"/>
            <a:ext cx="7848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La fabricación de computadoras supone un uso intensivo de materiales; el hidrocarburo total utilizado para hacer una desktop es de unos 240 kilogramos, o sea unas 10 veces el peso de la computadora misma. Esto es muy alto comparado a muchos otros bienes, como: un automóvil, una helader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También son utilizadas muchas cantidades de sustancias químicas (22 kg),  de agua (1.500 k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Diversos impactos ambientales se asocian con la utilización de hidrocarburos (por ejemplo. el cambio del clima), y con las sustancias químicas (por ejemplo. los efectos posibles de la salud en trabajadores de producción de microchip) y con el uso de agua (por ejemplo. la escasez en algunas áreas)</a:t>
            </a:r>
            <a:endParaRPr b="0" lang="en-US" sz="1800" spc="-1" strike="noStrike">
              <a:solidFill>
                <a:srgbClr val="ffffff"/>
              </a:solidFill>
              <a:latin typeface="Arial"/>
            </a:endParaRPr>
          </a:p>
        </p:txBody>
      </p:sp>
      <p:sp>
        <p:nvSpPr>
          <p:cNvPr id="92" name=""/>
          <p:cNvSpPr/>
          <p:nvPr/>
        </p:nvSpPr>
        <p:spPr>
          <a:xfrm>
            <a:off x="1403280" y="333360"/>
            <a:ext cx="547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Times New Roman"/>
              </a:rPr>
              <a:t>Cuestiones medioambientales relativas a la fabricación de componentes y suministros par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Times New Roman"/>
              </a:rPr>
              <a:t>las computadoras</a:t>
            </a:r>
            <a:endParaRPr b="0" lang="en-US" sz="1800" spc="-1" strike="noStrike">
              <a:solidFill>
                <a:srgbClr val="ffffff"/>
              </a:solidFill>
              <a:latin typeface="Arial"/>
            </a:endParaRPr>
          </a:p>
        </p:txBody>
      </p:sp>
      <p:sp>
        <p:nvSpPr>
          <p:cNvPr id="93" name=""/>
          <p:cNvSpPr/>
          <p:nvPr/>
        </p:nvSpPr>
        <p:spPr>
          <a:xfrm>
            <a:off x="3276720" y="5661000"/>
            <a:ext cx="718920" cy="432000"/>
          </a:xfrm>
          <a:prstGeom prst="rightArrow">
            <a:avLst>
              <a:gd name="adj1" fmla="val 50000"/>
              <a:gd name="adj2" fmla="val 41604"/>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D1D91C6D-BE96-4226-86DF-019BB8093F61}" type="slidenum">
              <a:t>2</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1116000" y="2060640"/>
            <a:ext cx="6624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ctive Desktop (Escritorio Activo) es una característica opcional de </a:t>
            </a:r>
            <a:r>
              <a:rPr b="1" lang="es-ES" sz="1800" spc="-1" strike="noStrike">
                <a:solidFill>
                  <a:srgbClr val="ffffff"/>
                </a:solidFill>
                <a:latin typeface="Times New Roman"/>
              </a:rPr>
              <a:t>Windows Desktop Update</a:t>
            </a:r>
            <a:r>
              <a:rPr b="1" lang="es-MX" sz="1800" spc="-1" strike="noStrike">
                <a:solidFill>
                  <a:srgbClr val="ffffff"/>
                </a:solidFill>
                <a:latin typeface="Times New Roman"/>
              </a:rPr>
              <a:t> para </a:t>
            </a:r>
            <a:r>
              <a:rPr b="0" lang="es-ES" sz="1800" spc="-1" strike="noStrike" u="sng">
                <a:solidFill>
                  <a:srgbClr val="ff0033"/>
                </a:solidFill>
                <a:uFillTx/>
                <a:latin typeface="Times New Roman"/>
                <a:hlinkClick r:id="rId1"/>
              </a:rPr>
              <a:t>Microsoft</a:t>
            </a:r>
            <a:r>
              <a:rPr b="1" lang="es-MX" sz="1800" spc="-1" strike="noStrike">
                <a:solidFill>
                  <a:srgbClr val="ffffff"/>
                </a:solidFill>
                <a:latin typeface="Times New Roman"/>
              </a:rPr>
              <a:t> </a:t>
            </a:r>
            <a:r>
              <a:rPr b="1" lang="es-ES" sz="1800" spc="-1" strike="noStrike">
                <a:solidFill>
                  <a:srgbClr val="ffffff"/>
                </a:solidFill>
                <a:latin typeface="Times New Roman"/>
              </a:rPr>
              <a:t>Internet Explorer</a:t>
            </a:r>
            <a:r>
              <a:rPr b="1" lang="es-MX" sz="1800" spc="-1" strike="noStrike">
                <a:solidFill>
                  <a:srgbClr val="ffffff"/>
                </a:solidFill>
                <a:latin typeface="Times New Roman"/>
              </a:rPr>
              <a:t> 4.0 que permite al usuario agregar contenido </a:t>
            </a:r>
            <a:r>
              <a:rPr b="1" lang="es-ES" sz="1800" spc="-1" strike="noStrike">
                <a:solidFill>
                  <a:srgbClr val="ffffff"/>
                </a:solidFill>
                <a:latin typeface="Times New Roman"/>
              </a:rPr>
              <a:t>HTML</a:t>
            </a:r>
            <a:r>
              <a:rPr b="1" lang="es-MX" sz="1800" spc="-1" strike="noStrike">
                <a:solidFill>
                  <a:srgbClr val="ffffff"/>
                </a:solidFill>
                <a:latin typeface="Times New Roman"/>
              </a:rPr>
              <a:t> en el escritorio (desktop) de Windows, junto con algunas otras características. También está incluido en </a:t>
            </a:r>
            <a:r>
              <a:rPr b="1" lang="es-ES" sz="1800" spc="-1" strike="noStrike">
                <a:solidFill>
                  <a:srgbClr val="ffffff"/>
                </a:solidFill>
                <a:latin typeface="Times New Roman"/>
              </a:rPr>
              <a:t>Windows 98</a:t>
            </a:r>
            <a:r>
              <a:rPr b="1" lang="es-MX" sz="1800" spc="-1" strike="noStrike">
                <a:solidFill>
                  <a:srgbClr val="ffffff"/>
                </a:solidFill>
                <a:latin typeface="Times New Roman"/>
              </a:rPr>
              <a:t> y versiones posterior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F870FD0F-762C-4FAA-9239-15335C20BB61}" type="slidenum">
              <a:t>3</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11280" y="1341360"/>
            <a:ext cx="7848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e conoce con el nombre de </a:t>
            </a:r>
            <a:r>
              <a:rPr b="0" lang="es-MX" sz="1800" spc="-1" strike="noStrike" u="sng">
                <a:solidFill>
                  <a:srgbClr val="ff0033"/>
                </a:solidFill>
                <a:uFillTx/>
                <a:latin typeface="Times New Roman"/>
                <a:hlinkClick r:id="rId1" action="ppaction://hlinksldjump"/>
              </a:rPr>
              <a:t>“green computing”</a:t>
            </a:r>
            <a:r>
              <a:rPr b="0" lang="es-MX" sz="1800" spc="-1" strike="noStrike">
                <a:solidFill>
                  <a:srgbClr val="ffffff"/>
                </a:solidFill>
                <a:latin typeface="Times New Roman"/>
              </a:rPr>
              <a:t>a la reducción del consumo de electricidad y de desechos mientras se usa una computadora. La genta usa y generalmente gasta recursos tales como electricidad y papel mientras usa la computadora. La sociedad ha tomado conciencia de esto y está tomando medidas para combatirla, así las computadoras, monitores e impresor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deberían cumplir con el programa de “energy star”.  Por ejemplo muchos dispositivos pasan a un estado latente o un modo en que salvan electricidad después de un cierto tiempo. Para reducir el impacto ambiental se deb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1. Usar computadoras y dispositivos del programa </a:t>
            </a:r>
            <a:r>
              <a:rPr b="0" lang="es-MX" sz="1800" spc="-1" strike="noStrike" u="sng">
                <a:solidFill>
                  <a:srgbClr val="ff0033"/>
                </a:solidFill>
                <a:uFillTx/>
                <a:latin typeface="Times New Roman"/>
                <a:hlinkClick r:id="rId2" action="ppaction://hlinksldjump"/>
              </a:rPr>
              <a:t>“energy st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2. No dejar la computadora prendida toda la noc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3. Apagar el monitor, la impresora y otros dispositivos cuando no están en us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4. Usar métodos que no usen papel para comunicar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5. Reciclar el pape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6. Comprar papel recicl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7. Reciclar los cartuchos de ton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8. Reciclar las computadoras usadas y las impresor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9. Teletrabajar (ahorra combustible)</a:t>
            </a:r>
            <a:endParaRPr b="0" lang="en-US" sz="1800" spc="-1" strike="noStrike">
              <a:solidFill>
                <a:srgbClr val="ffffff"/>
              </a:solidFill>
              <a:latin typeface="Arial"/>
            </a:endParaRPr>
          </a:p>
        </p:txBody>
      </p:sp>
      <p:sp>
        <p:nvSpPr>
          <p:cNvPr id="96" name="">
            <a:hlinkClick r:id="rId3" action="ppaction://hlinksldjump"/>
          </p:cNvPr>
          <p:cNvSpPr/>
          <p:nvPr/>
        </p:nvSpPr>
        <p:spPr>
          <a:xfrm>
            <a:off x="4284720" y="6165720"/>
            <a:ext cx="863640" cy="503280"/>
          </a:xfrm>
          <a:prstGeom prst="rightArrow">
            <a:avLst>
              <a:gd name="adj1" fmla="val 50000"/>
              <a:gd name="adj2" fmla="val 42901"/>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26FB8218-F422-4D6D-B675-86666A79FBAE}" type="slidenum">
              <a:t>4</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900000" y="213372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El concepto de Green IT o </a:t>
            </a:r>
            <a:r>
              <a:rPr b="0" lang="es-MX" sz="1800" spc="-1" strike="noStrike" u="sng">
                <a:solidFill>
                  <a:srgbClr val="ff0033"/>
                </a:solidFill>
                <a:uFillTx/>
                <a:latin typeface="Times New Roman"/>
                <a:hlinkClick r:id="rId1" action="ppaction://hlinksldjump"/>
              </a:rPr>
              <a:t>Green Computing</a:t>
            </a:r>
            <a:r>
              <a:rPr b="0" lang="es-MX" sz="1800" spc="-1" strike="noStrike">
                <a:solidFill>
                  <a:srgbClr val="ffffff"/>
                </a:solidFill>
                <a:latin typeface="Times New Roman"/>
              </a:rPr>
              <a:t>, está tomando una cierta relevancia en la actualidad debido a la preocupación generalizada por asuntos como el cambio climático, el reciclado, la biodegrabilidad.</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334FDFA1-4657-4B56-A9F4-A8807C769540}" type="slidenum">
              <a:t>5</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98" name=""/>
          <p:cNvGraphicFramePr/>
          <p:nvPr/>
        </p:nvGraphicFramePr>
        <p:xfrm>
          <a:off x="7740720" y="260280"/>
          <a:ext cx="1218960" cy="1008000"/>
        </p:xfrm>
        <a:graphic>
          <a:graphicData uri="http://schemas.openxmlformats.org/presentationml/2006/ole">
            <p:oleObj r:id="rId1" spid="">
              <p:embed/>
              <p:pic>
                <p:nvPicPr>
                  <p:cNvPr id="99" name="" descr=""/>
                  <p:cNvPicPr/>
                  <p:nvPr/>
                </p:nvPicPr>
                <p:blipFill>
                  <a:blip r:embed="rId2"/>
                  <a:stretch/>
                </p:blipFill>
                <p:spPr>
                  <a:xfrm>
                    <a:off x="7740720" y="260280"/>
                    <a:ext cx="1218960" cy="1008000"/>
                  </a:xfrm>
                  <a:prstGeom prst="rect">
                    <a:avLst/>
                  </a:prstGeom>
                  <a:ln w="0">
                    <a:noFill/>
                  </a:ln>
                </p:spPr>
              </p:pic>
            </p:oleObj>
          </a:graphicData>
        </a:graphic>
      </p:graphicFrame>
      <p:sp>
        <p:nvSpPr>
          <p:cNvPr id="100" name=""/>
          <p:cNvSpPr/>
          <p:nvPr/>
        </p:nvSpPr>
        <p:spPr>
          <a:xfrm>
            <a:off x="1042920" y="24210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33"/>
                </a:solidFill>
                <a:uFillTx/>
                <a:latin typeface="Times New Roman"/>
                <a:hlinkClick r:id="rId3" action="ppaction://hlinksldjump"/>
              </a:rPr>
              <a:t>Energy</a:t>
            </a:r>
            <a:r>
              <a:rPr b="0" lang="es-ES" sz="1800" spc="-1" strike="noStrike" u="sng">
                <a:solidFill>
                  <a:srgbClr val="ff0033"/>
                </a:solidFill>
                <a:uFillTx/>
                <a:latin typeface="Times New Roman"/>
                <a:hlinkClick r:id="rId4" action="ppaction://hlinksldjump"/>
              </a:rPr>
              <a:t> </a:t>
            </a:r>
            <a:r>
              <a:rPr b="0" lang="es-ES" sz="1800" spc="-1" strike="noStrike" u="sng">
                <a:solidFill>
                  <a:srgbClr val="ff0033"/>
                </a:solidFill>
                <a:uFillTx/>
                <a:latin typeface="Times New Roman"/>
                <a:hlinkClick r:id="rId5" action="ppaction://hlinksldjump"/>
              </a:rPr>
              <a:t>Star</a:t>
            </a:r>
            <a:r>
              <a:rPr b="0" lang="es-ES" sz="1800" spc="-1" strike="noStrike" u="sng">
                <a:solidFill>
                  <a:srgbClr val="ff0033"/>
                </a:solidFill>
                <a:uFillTx/>
                <a:latin typeface="Times New Roman"/>
                <a:hlinkClick r:id="rId6" action="ppaction://hlinksldjump"/>
              </a:rPr>
              <a:t> </a:t>
            </a:r>
            <a:r>
              <a:rPr b="0" lang="es-ES" sz="1800" spc="-1" strike="noStrike">
                <a:solidFill>
                  <a:srgbClr val="ffffff"/>
                </a:solidFill>
                <a:latin typeface="Times New Roman"/>
              </a:rPr>
              <a:t>es un programa de la Agencia de Protección Ambiental de los EEUU, creado  1992  para promover los productos eléctricos con consumo eficiente de electricidad, reduciendo de esta forma la emisión de gas de efecto invernadero por parte de las centrales eléctricas. </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758CF1B9-B538-4C62-B1B2-49CB2764535C}" type="slidenum">
              <a:t>6</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
          <p:cNvSpPr/>
          <p:nvPr/>
        </p:nvSpPr>
        <p:spPr>
          <a:xfrm>
            <a:off x="1042920" y="256536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La rápida obsolescencia de los equipos, producto del desarrollo informático y el diseño de nuevo hardware, provoca que cada dos o tres años las computadoras se actualicen, quizá no es su totalidad pero sí algo del equipo y esto sucede tanto a nivel doméstico como empresarial y gubernament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En 1998,  20 millones de computadoras fueron desechadas y en 2005, 63 millones, de las cuales 75% de ellas terminan en los basurales. Todo este desecho computacional se convierten en un gran problema ambiental por los materiales tóxicos que conforman al hardware en cuestión.</a:t>
            </a:r>
            <a:endParaRPr b="0" lang="en-US" sz="1800" spc="-1" strike="noStrike">
              <a:solidFill>
                <a:srgbClr val="ffffff"/>
              </a:solidFill>
              <a:latin typeface="Arial"/>
            </a:endParaRPr>
          </a:p>
        </p:txBody>
      </p:sp>
      <p:sp>
        <p:nvSpPr>
          <p:cNvPr id="102" name=""/>
          <p:cNvSpPr/>
          <p:nvPr/>
        </p:nvSpPr>
        <p:spPr>
          <a:xfrm>
            <a:off x="1476360" y="765000"/>
            <a:ext cx="547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Times New Roman"/>
              </a:rPr>
              <a:t>Cuestiones medioambientales relativas a la eliminación de hardware y de suministros par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Times New Roman"/>
              </a:rPr>
              <a:t>las computadoras obsoleta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032946D6-5069-44FF-9974-59A4F784469C}" type="slidenum">
              <a:t>7</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
          <p:cNvSpPr/>
          <p:nvPr/>
        </p:nvSpPr>
        <p:spPr>
          <a:xfrm>
            <a:off x="395280" y="83664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A. El monitor posee tubos de rayo catódico cuya radiación protege al vidrio y a la soldadura principal de los cables y conexiones. También posee bario, utilizado para la protección del vidrio y fósforo en la capa interior de la pantalla; por último el cromo se aplica en partes galvanizadas de acero para la protección de la corrosión.</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B. El chasis posee cromo para prevenir la corrosión.</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C. Los cables están cubiertos plásticamente con </a:t>
            </a:r>
            <a:r>
              <a:rPr b="0" lang="es-MX" sz="1800" spc="-1" strike="noStrike" u="sng">
                <a:solidFill>
                  <a:srgbClr val="ff0033"/>
                </a:solidFill>
                <a:uFillTx/>
                <a:latin typeface="Times New Roman"/>
                <a:hlinkClick r:id="rId1" action="ppaction://hlinksldjump"/>
              </a:rPr>
              <a:t>PBDE</a:t>
            </a:r>
            <a:r>
              <a:rPr b="0" lang="es-MX" sz="1800" spc="-1" strike="noStrike">
                <a:solidFill>
                  <a:srgbClr val="ffffff"/>
                </a:solidFill>
                <a:latin typeface="Times New Roman"/>
              </a:rPr>
              <a:t> y </a:t>
            </a:r>
            <a:r>
              <a:rPr b="0" lang="es-MX" sz="1800" spc="-1" strike="noStrike" u="sng">
                <a:solidFill>
                  <a:srgbClr val="ff0033"/>
                </a:solidFill>
                <a:uFillTx/>
                <a:latin typeface="Times New Roman"/>
                <a:hlinkClick r:id="rId2" action="ppaction://hlinksldjump"/>
              </a:rPr>
              <a:t>PVC</a:t>
            </a:r>
            <a:r>
              <a:rPr b="0" lang="es-MX"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D. La cubierta plástica de PBDE es utilizada como soporte resistente al fuego en plásticos de la computadora; cuando este plástico, al igual que el PVC se queman emana dioxina, humo tóxico.</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 Muchos </a:t>
            </a:r>
            <a:r>
              <a:rPr b="0" lang="es-MX" sz="1800" spc="-1" strike="noStrike">
                <a:solidFill>
                  <a:srgbClr val="ffffff"/>
                </a:solidFill>
                <a:latin typeface="Times New Roman"/>
              </a:rPr>
              <a:t> fabricantes utilizan la soldadura para conectar semiconductores y otros componentes, al igual que los cables para los tableros del sistema, en el tablero de circuitos. Se hayan berilio, cadmio y mercurio en las tablas y conectores por lo cual producen contaminación ambiental en su oxidación.</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889C0176-E984-4C37-B83A-B8A98CA32FFA}" type="slidenum">
              <a:t>8</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4" name=""/>
          <p:cNvGraphicFramePr/>
          <p:nvPr/>
        </p:nvGraphicFramePr>
        <p:xfrm>
          <a:off x="1258920" y="765000"/>
          <a:ext cx="5761080" cy="5256360"/>
        </p:xfrm>
        <a:graphic>
          <a:graphicData uri="http://schemas.openxmlformats.org/presentationml/2006/ole">
            <p:oleObj r:id="rId1" spid="">
              <p:embed/>
              <p:pic>
                <p:nvPicPr>
                  <p:cNvPr id="105" name="" descr=""/>
                  <p:cNvPicPr/>
                  <p:nvPr/>
                </p:nvPicPr>
                <p:blipFill>
                  <a:blip r:embed="rId2"/>
                  <a:stretch/>
                </p:blipFill>
                <p:spPr>
                  <a:xfrm>
                    <a:off x="1258920" y="765000"/>
                    <a:ext cx="5761080" cy="5256360"/>
                  </a:xfrm>
                  <a:prstGeom prst="rect">
                    <a:avLst/>
                  </a:prstGeom>
                  <a:ln w="0">
                    <a:noFill/>
                  </a:ln>
                </p:spPr>
              </p:pic>
            </p:oleObj>
          </a:graphicData>
        </a:graphic>
      </p:graphicFrame>
      <p:sp>
        <p:nvSpPr>
          <p:cNvPr id="106" name=""/>
          <p:cNvSpPr/>
          <p:nvPr/>
        </p:nvSpPr>
        <p:spPr>
          <a:xfrm>
            <a:off x="4211640" y="6165720"/>
            <a:ext cx="936720" cy="503280"/>
          </a:xfrm>
          <a:prstGeom prst="rightArrow">
            <a:avLst>
              <a:gd name="adj1" fmla="val 50000"/>
              <a:gd name="adj2" fmla="val 46531"/>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31524C1F-A61D-440D-B763-694D238AA34E}" type="slidenum">
              <a:t>9</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20:57:36Z</dcterms:created>
  <dc:creator>Estrella Córdoba Bogantes </dc:creator>
  <dc:description/>
  <dc:language>en-US</dc:language>
  <cp:lastModifiedBy>Estrella Córdoba Bogantes </cp:lastModifiedBy>
  <dcterms:modified xsi:type="dcterms:W3CDTF">2009-03-19T19:37:29Z</dcterms:modified>
  <cp:revision>55</cp:revision>
  <dc:subject/>
  <dc:title>Diapositiva 1</dc:title>
</cp:coreProperties>
</file>